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4912-ACF8-4138-82F5-3AF99E0E13E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7D86-4C1D-4C68-9306-B4E76738A5C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A810-0836-4BC8-A555-55A385826E5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1B1E-3DE0-4811-B25E-DBA82263B7F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A399-7B5F-4498-BD5D-408DBCD4BF3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654D-81DA-4538-9008-6B3A3646358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A3CB-C9D0-41F2-B537-76EE83523F3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4809-8167-4281-9C05-ECE120B3BFB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D9B4-B687-466B-83A6-7E6CB5B284F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E54A-7310-4AF2-98F8-BD391532E20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68ED-5F5C-4E7F-9AB8-2FCA8F89C5F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F68D-F6BD-4667-81A5-1ECC4EC2845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0E3D-FDB6-44DF-A6F9-7C64733FC1F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7050-E820-46D3-A1A1-EB9D5DD7D3C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1729-0684-4133-9F47-229A6094E64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BAD1-05A7-4F2F-BEBC-F5DDBEFC606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972-EB08-43F6-8AF8-8CB2CC79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9F8-2862-4089-B40E-C7E2ACCA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3A96D-72EB-4777-80D7-54600936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1CA01-9FA8-4914-93FD-7BBC9D7D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8456E-DEB2-4104-A017-EEA583E6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4647B-2F3D-4752-82FB-117EFA34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6115E-84AB-4A11-A75D-48AB9E16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12AAC-1778-4BD0-922B-A193CEB0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9516F-F724-4D82-BCA4-7E6A347F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64F5E-1C84-41F5-92CD-70A297BE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A4987-CA47-483A-B572-6CDB37E8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47C5B-3061-471C-94A1-BD9940F5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05B-38CE-41F3-B51C-1AE89732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8FCC0-E122-4F2E-8E3F-12EA2EC5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AC9A4-EE3C-4571-A1BC-459F1223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4C464-78E9-4C11-B707-7D4D801F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72EC5-878C-4240-9601-BE936A47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A00D1-6503-4AFE-A521-F8EC1079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824FF-4390-42D6-BBAA-75B17E7A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1680C-F81E-4F10-8D93-D11061DA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EB3E4-E53F-49AF-BAC2-AB9A9A57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20CEE-9BE9-4204-8801-E96A8631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410DE-8F5A-43A6-961C-26D2D227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B24E-EB6D-4431-ACC2-176FA115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1240E-2BC9-4507-8105-1EC4AD76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E3071-8E83-4DD1-80A5-28EA96C3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08889-DFF9-4CF4-96F8-9E0ACACD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E2E41-159E-4F95-9A84-77CD277A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4F0A1-D193-43A5-9AE6-76340646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CC89F-05E9-451B-8877-E9C47227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DB1BF-D0D0-4A71-8A46-A85DC3E0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93A4B-BFCE-4F58-9FFB-5297E6A0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C8877-99E1-47B0-9CE1-E11BA7C8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3B5A1-D2CD-4094-8985-48F0DAB7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D99F-70CB-437E-9689-2E52E4A2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E5AB6-DE47-47E4-9DD7-90CB6ED0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B2029-755B-4DCC-922F-1C4E9D0A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60EE0-8742-4460-811E-0694C564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5A66F-2F4A-44E4-A951-CF944441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1DED8-41E7-4D45-AA54-562E2E61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C1BDB-1D2B-4E48-A7CF-D0017E30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0EE77-D9F1-4106-AC8E-09AF0211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F9B6C-605E-47E1-8AF9-7F533C9A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26769-986D-48A5-84C4-598A2457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F8648-60E8-4258-BE26-17ACE1F3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DD57-D42C-44E6-B45F-F8442E5F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44219-973D-4D27-9C14-7F33A105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F6F1E-1830-400A-9B45-B82A5546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19460-A617-442B-B1C2-EA96D3E4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4D6F7-D8CD-4324-8566-0C0F7273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B191B-2BDC-4390-AB1E-956F0AA9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98E6-0406-4972-A660-3216D8E3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4582-6711-46D2-913D-B629BDF1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A4E3-94C1-4ED6-8CD6-9003BB1F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492D-F45D-4555-83C2-A12550C0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EEFE-ABB1-4F06-8D8B-6CBD0F7F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535-09C0-4E91-86F5-9695AFEE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B30D-2BBF-4F15-A9D4-F7C74DBC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FC0A-A8D1-432A-8D12-B95C527D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3C9C-D6AE-4CB0-BD64-FD8FC802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A93A-BCC3-4CCD-8BEB-561173D5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6382-B5E5-4103-AE32-7FD7E3D3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F1B43-FB6C-4D1D-8509-9B90DC95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12966-3680-4505-800B-BC399B82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5C0EE-8A8F-40FF-BF42-1328B36B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056B8-3379-45C8-93CD-7479F80D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BE057-1CC8-46C7-8208-C7DDB89C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137-01B2-4C55-BE0C-77475CC4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E4B07-C97D-4F7A-8951-7FF3511D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4515A-8F72-40A4-97EC-65A44F18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CED5-8303-40FC-BE62-7C1E6BEE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FF520-8ECA-4444-AEB2-C9474ADF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5BCD9-647F-4632-A532-803D4188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4E5CF-447F-4272-AABB-B5D750A7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3641D-94AB-48DB-B110-F6165863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55DC0-426D-4B54-906D-62BAA835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DAA88-1340-4782-9852-3C09458B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9D561-4F80-4C1E-A429-47993D4C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ED4-11D3-430E-B0E3-854F36B0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FF16A-0F0D-4787-B4A9-DF7BFE31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1F25D-4B42-4E64-B073-5DE2C56A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3C57A-081C-4661-8225-20E3EA91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CF8F6-98FD-4AA0-94BE-F4825AA3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F6810-70CF-482E-8961-4E021E5E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F54CF-967D-444E-B41C-862BE56C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DDDFA-93BE-453D-BE03-E3984FFB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16FF9-BC36-46F5-8EE7-3A78BED9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3236C-E438-460B-9F76-28EFB425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E5FEB-8475-4EF8-8659-7E9EC1A4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C34-AFF7-492E-A0A2-2FFE69FB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FFFEC-4C31-49CD-8466-D3004900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62279-68EA-4DE0-832C-C577CAE4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D7F82-A253-4F6D-9EEA-980120AE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4FEC8-592E-4A94-BCCD-26E71EAE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4E0E8-3D84-4A58-A24F-E0C41832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293A5-0DBE-4583-AAE7-3B658453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7F443-DC36-4351-94EC-33045F59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9717D-B062-40C6-B233-147200BB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FC687-8B98-4BED-938C-231232A2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D0C09-227B-47BA-8BD2-CBAE0083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379-C789-40AB-BF66-305FBC41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02AE3-3921-4281-83C0-B5B24165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FC943-AF3E-4170-BD60-93837E82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9B92E-0D28-4E36-9F3A-26C6C621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860B9-F2F0-4429-BEB5-78ABAF10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EBCEC-7E2D-4B76-9E8C-E0EFF855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C1913-155C-45E4-B4A5-2E05061C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20A68-679A-4B05-9060-27F93BE9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88152-3A54-4432-B8ED-12570BEF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3EC75-4620-41A3-A3A2-E7A3CA75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100F7-0332-4DEA-B8DF-DE5EDF49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20E-649A-422E-B65F-AC592283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49DBB-C485-4BB9-BDF4-212F8894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0E5C2-5CD6-4A95-8BEB-6AE381E3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2A4CB-44EA-4C95-BAF3-FE185137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A6D1B-4CFD-4F3D-A941-D11D5C4A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C039A-69C3-4275-88AA-E441545A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16A86-CAD8-4D94-8927-62C756B4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5F3A3-8D30-4D55-B8C4-07038357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F9C1A-D408-465A-BE4F-E272C560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0DB97-35A9-4C07-B5FF-8C168040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F2973-0CA2-4635-BEC5-4BFDCA88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848-940A-4C53-B058-02E2ABE9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64BDC-32BC-4B2E-B54F-F5861F66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A5802-6402-4EEC-871E-AC1BD63A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0E46A-0F82-4C7B-A531-35EF5748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DC6B3-166D-4651-9BBB-86A0E311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A0F0F-738F-4510-B5FA-19B5252F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B9408-0462-4825-B5DA-3F85B852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DB893-C3AB-4649-A73E-DC4DDF70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7AD7C-0810-4C5F-8F98-FCEED29B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43306-4FE1-43BA-A69A-7F0FDA4C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9CE20-3C8B-4810-B896-BFF1978E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131-ECDC-4638-ACFC-83FCC91E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E1B42-CB7C-4A08-9501-515FACD9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46700-AA50-48F2-A3EB-4815A2BE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DF61D-CD4F-41B9-8E60-FC07C299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45CBA-FCD0-4CAA-AC3C-D73247D6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1026A-3E73-4F80-B1BB-B6A5C317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10349-25A9-4C72-BEC2-563C7E5C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02A94-F61D-4D05-8E3E-75EB6C2C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3025E-5827-45D7-ABBC-9345F58B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845AC-7878-4087-85BC-C9958F02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DC58E-9461-4F82-82A0-8CD31BF3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B491-CF50-4D40-82C0-6D140A410F1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E3EC-7EEF-4805-A437-209051FEB960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29E3-BBE0-4CE7-92FC-04A2B2C9A65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C55D-3F2C-44B7-8186-F66E658998F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C5F3-3D03-4903-A9DE-77BD6833FE2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73F8-EA11-4AA7-ABD9-73E8E9C6F3A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BE00-1189-4FFC-A654-1FCBD7251E6F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10AB-83F9-4BB9-8E70-CD06FC6ACB3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3B6E-F131-4AFC-A306-B6FECE00146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D443-6F1B-4A95-82DF-607CA65F697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A4F6-331C-4E3D-8353-014F5FF90C5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1539-3299-4A2D-996E-9EFD69863D4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nansijski menad</a:t>
            </a:r>
            <a:r>
              <a:rPr b="0" lang="sr-Latn-CS" sz="3200" spc="-1" strike="noStrike">
                <a:solidFill>
                  <a:srgbClr val="000000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n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1600200"/>
          <a:ext cx="8229600" cy="404352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rethodne godine (2-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bilansa st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lanske godine (4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inimalna akumulacija za odrzavanje nepromijenjene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finansijske ravnoteze (6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aks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28600" y="1676520"/>
          <a:ext cx="8534520" cy="3031920"/>
        </p:xfrm>
        <a:graphic>
          <a:graphicData uri="http://schemas.openxmlformats.org/drawingml/2006/table">
            <a:tbl>
              <a:tblPr/>
              <a:tblGrid>
                <a:gridCol w="1185840"/>
                <a:gridCol w="734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plan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(2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za ulaganja u nove investicione programe u narednim godin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aksimalna akumulacija (3+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Mogu</a:t>
            </a:r>
            <a:r>
              <a:rPr b="0" lang="sr-Latn-CS" sz="2900" spc="-1" strike="noStrike">
                <a:solidFill>
                  <a:srgbClr val="464653"/>
                </a:solidFill>
                <a:latin typeface="Bookman Old Style"/>
              </a:rPr>
              <a:t>ć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nost ostvarenja minimalno i maksimalno potrebne akumulacij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va varijanta bilansa u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 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rodajnih cijena (pariteta prodajnih i nabavnih cijena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 obima proizvodnje i prodaj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na</a:t>
            </a:r>
            <a:r>
              <a:rPr b="0" lang="sr-Latn-CS" sz="26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 varijanta planskog bilansa us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slov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10"/>
          <p:cNvGraphicFramePr/>
          <p:nvPr/>
        </p:nvGraphicFramePr>
        <p:xfrm>
          <a:off x="304920" y="2438280"/>
          <a:ext cx="8001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8001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11"/>
          <p:cNvGraphicFramePr/>
          <p:nvPr/>
        </p:nvGraphicFramePr>
        <p:xfrm>
          <a:off x="762120" y="4343400"/>
          <a:ext cx="73911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343400"/>
                    <a:ext cx="73911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68" name="Object 8"/>
          <p:cNvGraphicFramePr/>
          <p:nvPr/>
        </p:nvGraphicFramePr>
        <p:xfrm>
          <a:off x="0" y="2209680"/>
          <a:ext cx="8412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841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9"/>
          <p:cNvGraphicFramePr/>
          <p:nvPr/>
        </p:nvGraphicFramePr>
        <p:xfrm>
          <a:off x="533520" y="4038480"/>
          <a:ext cx="7867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6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lo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0" y="1828800"/>
          <a:ext cx="853452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53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6"/>
          <p:cNvGraphicFramePr/>
          <p:nvPr/>
        </p:nvGraphicFramePr>
        <p:xfrm>
          <a:off x="304920" y="3429000"/>
          <a:ext cx="845820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8458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-99072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1"/>
          <p:cNvGraphicFramePr/>
          <p:nvPr/>
        </p:nvGraphicFramePr>
        <p:xfrm>
          <a:off x="380880" y="4952880"/>
          <a:ext cx="844884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8448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uspjeh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novcanih tok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dugorocnih ulag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da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nabav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izvod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ulaganja u stalna sredst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kadr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ski bilans uspjeha – prva varijant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603440" y="1225440"/>
            <a:ext cx="6188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iranje obrtnih sredstav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57200" y="1219320"/>
          <a:ext cx="8305920" cy="5213160"/>
        </p:xfrm>
        <a:graphic>
          <a:graphicData uri="http://schemas.openxmlformats.org/drawingml/2006/table">
            <a:tbl>
              <a:tblPr/>
              <a:tblGrid>
                <a:gridCol w="692280"/>
                <a:gridCol w="2922480"/>
                <a:gridCol w="922320"/>
                <a:gridCol w="923760"/>
                <a:gridCol w="1460520"/>
                <a:gridCol w="138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obtnih sred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cinak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vezi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a obrtna sredstva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u blagaj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na depozitnim racun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tije od vrijed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od kupa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za ava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potraziv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rovine i repromaterij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na zali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zavrsena proizvod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lu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 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govacka 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u upotre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tivna vremenska razgranic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plasm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obrtna sredstva (1 do 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pontanih izvora i kratkorocnih kredi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1219320"/>
          <a:ext cx="8458200" cy="5578200"/>
        </p:xfrm>
        <a:graphic>
          <a:graphicData uri="http://schemas.openxmlformats.org/drawingml/2006/table">
            <a:tbl>
              <a:tblPr/>
              <a:tblGrid>
                <a:gridCol w="627120"/>
                <a:gridCol w="2504880"/>
                <a:gridCol w="1409760"/>
                <a:gridCol w="1254240"/>
                <a:gridCol w="1487520"/>
                <a:gridCol w="11746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izv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ak u toku planskog peri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raspolo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ž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i izvori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c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,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datim hartijama od vrijed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,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 na pro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kamate, dividende i naknade za ulo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na finansijski rezul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ostale dazb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neto licne dohot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iz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avansima kup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obustavama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sivna vremenska razgranic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ntani izvori i 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,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osnovnih sredstava i dugorocnih plasman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33520" y="1676520"/>
          <a:ext cx="8229600" cy="2428920"/>
        </p:xfrm>
        <a:graphic>
          <a:graphicData uri="http://schemas.openxmlformats.org/drawingml/2006/table">
            <a:tbl>
              <a:tblPr/>
              <a:tblGrid>
                <a:gridCol w="685800"/>
                <a:gridCol w="2590560"/>
                <a:gridCol w="990720"/>
                <a:gridCol w="1219320"/>
                <a:gridCol w="1295280"/>
                <a:gridCol w="14479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nov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9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i plasm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talna sredstva (1 +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3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opstvenog kapitala i dugorocnih obavez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" y="1219320"/>
          <a:ext cx="8229600" cy="3012840"/>
        </p:xfrm>
        <a:graphic>
          <a:graphicData uri="http://schemas.openxmlformats.org/drawingml/2006/table">
            <a:tbl>
              <a:tblPr/>
              <a:tblGrid>
                <a:gridCol w="609480"/>
                <a:gridCol w="2667240"/>
                <a:gridCol w="1447560"/>
                <a:gridCol w="1143000"/>
                <a:gridCol w="1143000"/>
                <a:gridCol w="1219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pis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nominir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a rezervisanja za rizi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e obave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opstveni kapital i dugorocne obaveze ( 1 do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7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9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gorocna finansijska ravnotez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600200"/>
          <a:ext cx="8229600" cy="2865600"/>
        </p:xfrm>
        <a:graphic>
          <a:graphicData uri="http://schemas.openxmlformats.org/drawingml/2006/table">
            <a:tbl>
              <a:tblPr/>
              <a:tblGrid>
                <a:gridCol w="1066680"/>
                <a:gridCol w="716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stveni kapital i dugoroc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to dobitak/gubitak po prvoj varijanti planskog bilansa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, dugorocne obaveze i neto dobitak/gubitak (1+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stalna sreds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e stalne zali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cno vezana sredstva (4+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16:36Z</dcterms:created>
  <dc:creator>Miki</dc:creator>
  <dc:description/>
  <dc:language>en-US</dc:language>
  <cp:lastModifiedBy>boris</cp:lastModifiedBy>
  <dcterms:modified xsi:type="dcterms:W3CDTF">2012-11-28T18:30:49Z</dcterms:modified>
  <cp:revision>32</cp:revision>
  <dc:subject/>
  <dc:title>Finansijski menadzment</dc:title>
</cp:coreProperties>
</file>